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B13-C1DA-4A85-9E57-AE41C1D2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5B1-BC56-4411-9D37-0C320B25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626-FDB2-4FA0-A573-03D0CCD6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90C-976D-4B6A-833C-9545755F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19D-9F25-4B7B-89CF-1546909A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8FB-A55F-4DFD-8C54-43F5EFA9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340-A904-4F8B-9742-A3DC1949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080-D059-4EB2-BFDA-C573E1F1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69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A59-9E0A-430E-A843-6CA74FE8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E05-CB99-4B4E-A9D1-5EADF40A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8DD-7408-43C7-8954-20016E03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F8D-0DFA-41E6-8FF5-E27AFE85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E633-1FD5-43DA-BAEB-8E00DA136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La nouvelle BMW Série 1 Coupé</a:t>
            </a:r>
            <a:r>
              <a:rPr b="0" lang="it-IT" sz="4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.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Points forts</a:t>
            </a:r>
            <a:r>
              <a:rPr b="0" lang="en-US" sz="4000" spc="-1" strike="noStrike">
                <a:solidFill>
                  <a:srgbClr val="000000"/>
                </a:solidFill>
                <a:latin typeface="BMWType Light"/>
              </a:rPr>
              <a:t>.</a:t>
            </a:r>
            <a:r>
              <a:rPr b="0" lang="en-US" sz="4400" spc="-1" strike="noStrike">
                <a:solidFill>
                  <a:srgbClr val="808080"/>
                </a:solidFill>
                <a:latin typeface="BMW Helvetica Light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229716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MWTypeLight-Bold"/>
                <a:ea typeface="Times New Roman"/>
              </a:rPr>
              <a:t>BMW pur sang.</a:t>
            </a:r>
            <a:r>
              <a:rPr b="0" lang="de-DE" sz="2800" spc="-1" strike="noStrike">
                <a:solidFill>
                  <a:srgbClr val="000000"/>
                </a:solidFill>
                <a:latin typeface="BMW 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906640"/>
            <a:ext cx="792504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La nouvelle BMW Série 1 Coupé marie la fonctionnalité de la classe des compactes au dynamisme et à la forme d’un vrai coupé sport</a:t>
            </a: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BMW 135i Coupé – Motorisation top avec injection haute précision et double turbo</a:t>
            </a:r>
            <a:r>
              <a:rPr b="0" lang="it-IT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. </a:t>
            </a: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BMW 123d Coupé – le premier moteur diesel 4 cylindres au monde avec suralimentation à deux étages</a:t>
            </a: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Pack BMW EfficientDynamics : avec récupération de l’énergie de freinage, fonction Auto Start Stop et autres mesures pour encore plus de dynamisme et une consommation encore plus sobre</a:t>
            </a: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4:19:52Z</dcterms:created>
  <dc:creator>Christoph Schmitz</dc:creator>
  <dc:description/>
  <dc:language>en-US</dc:language>
  <cp:lastModifiedBy>Christiane</cp:lastModifiedBy>
  <dcterms:modified xsi:type="dcterms:W3CDTF">2007-07-25T18:00:45Z</dcterms:modified>
  <cp:revision>34</cp:revision>
  <dc:subject/>
  <dc:title>Die neue BMW 5er Reihe Konsequenzen für eine erfolgreiche 5er Verkaufsarbeit</dc:title>
</cp:coreProperties>
</file>