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599-AE7E-4A99-B181-511A1D9A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873-7DCE-43D4-B816-6F9142E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636-2831-4A8F-8417-464686BE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0DA-A0C3-40FC-8597-413CEFBD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27C-E1A1-43FF-95B1-2379C52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B74-CA9B-4128-9A98-5FBA55C6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233-B447-497D-9A2A-77E7DD1D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5CF-EE10-49C6-8699-5B84ED46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69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CF3-2450-4EF3-8E4B-C0055B0E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1A3-0A54-4F1A-96F0-41386DD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433-0A69-4B6B-B361-B954898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2BC-31AA-499A-9CB8-AE8770D5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AC4C-E75B-4A17-A16B-81B02467D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La nuova BMW Serie 1 Coupé.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Aspetti salienti</a:t>
            </a:r>
            <a:r>
              <a:rPr b="0" lang="en-US" sz="4400" spc="-1" strike="noStrike">
                <a:solidFill>
                  <a:srgbClr val="000000"/>
                </a:solidFill>
                <a:latin typeface="BMWType Light"/>
              </a:rPr>
              <a:t>.</a:t>
            </a:r>
            <a:r>
              <a:rPr b="0" lang="en-US" sz="4400" spc="-1" strike="noStrike">
                <a:solidFill>
                  <a:srgbClr val="808080"/>
                </a:solidFill>
                <a:latin typeface="BMW Helvetica Light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29716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MWTypeLight-Bold"/>
                <a:ea typeface="Times New Roman"/>
              </a:rPr>
              <a:t>L’essenza BMW allo stato puro.</a:t>
            </a:r>
            <a:r>
              <a:rPr b="0" lang="de-DE" sz="2800" spc="-1" strike="noStrike">
                <a:solidFill>
                  <a:srgbClr val="000000"/>
                </a:solidFill>
                <a:latin typeface="BMW Helvetica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90664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La nuova BMW Serie 1 Coupé unisce la funzionalità della classe compatta alla dinamicità e al profilo di una vera coupé sportiva</a:t>
            </a: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135i Coupé – motore potente con iniezione ad alta precisione e Twin Turbo. </a:t>
            </a: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BMW 123d Coupé – il primo motore diesel a quattro cilindri al mondo con Twin Turbo variabile</a:t>
            </a: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Pacchetto BMW EfficientDynamics: con Brake Energy Regeneration, funzione Auto Start Stop ed altri dispositivi per una maggiore dinamica ed efficienza nei consumi</a:t>
            </a:r>
            <a:r>
              <a:rPr b="0" lang="de-DE" sz="2000" spc="-1" strike="noStrike">
                <a:solidFill>
                  <a:srgbClr val="000000"/>
                </a:solidFill>
                <a:latin typeface="BMWTypeLight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4:19:52Z</dcterms:created>
  <dc:creator>Christoph Schmitz</dc:creator>
  <dc:description/>
  <dc:language>en-US</dc:language>
  <cp:lastModifiedBy>Christiane</cp:lastModifiedBy>
  <dcterms:modified xsi:type="dcterms:W3CDTF">2007-07-25T17:56:18Z</dcterms:modified>
  <cp:revision>32</cp:revision>
  <dc:subject/>
  <dc:title>Die neue BMW 5er Reihe Konsequenzen für eine erfolgreiche 5er Verkaufsarbeit</dc:title>
</cp:coreProperties>
</file>