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684-DC74-4FDF-B7AE-475518AC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3A2-AE60-4628-8334-5B36931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8C5-8593-4D79-8E70-4C57A543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14D-5762-4BD5-B5F2-7C636082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05C-2CA1-4F88-9A4F-2762D6C8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FB6-C99F-4EB4-BFEA-F4245F4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078-9A4D-4717-A4B3-ADE6FC4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015-0697-4BF6-8895-24566B52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69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12E-8D76-4D8B-86A8-E60A4771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FFE-D85E-4F47-9F41-2E98874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34E-9D7D-4D2A-989E-D17A849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489-A696-4C90-B29E-69108C4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168-A400-419E-9F3A-7C5E554959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MWType Light"/>
              </a:rPr>
              <a:t>Das neue BMW 1er Coupé.  Highlights.</a:t>
            </a:r>
            <a:r>
              <a:rPr b="0" lang="en-US" sz="4400" spc="-1" strike="noStrike">
                <a:solidFill>
                  <a:srgbClr val="808080"/>
                </a:solidFill>
                <a:latin typeface="BMW Helvetica Light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29716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MWTypeLight-Bold"/>
                <a:ea typeface="Times New Roman"/>
              </a:rPr>
              <a:t>BMW Gene p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906640"/>
            <a:ext cx="79250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Das neue BMW 1er Coupé verbindet die Funktionalität der Kompaktklasse mit der Dynamik und der Form eines echten Sportcoup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35i Coupé – Spitzenmotorisierung mit High Precis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Injection und Twin Turb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23d Coupé – weltweit erster Vierzylinderdiesel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mit Variable Twin Turb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EfficientDynamics Paket: mit Brake Energy Regeneration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Auto Start Stop Funktion und weiteren Maßnahmen für no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mehr Dynamik und weniger Verbrau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4:19:52Z</dcterms:created>
  <dc:creator>Christoph Schmitz</dc:creator>
  <dc:description/>
  <dc:language>en-US</dc:language>
  <cp:lastModifiedBy>Christiane</cp:lastModifiedBy>
  <dcterms:modified xsi:type="dcterms:W3CDTF">2007-07-25T17:53:23Z</dcterms:modified>
  <cp:revision>30</cp:revision>
  <dc:subject/>
  <dc:title>Die neue BMW 5er Reihe Konsequenzen für eine erfolgreiche 5er Verkaufsarbeit</dc:title>
</cp:coreProperties>
</file>