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DF2C-1053-44E0-B5AB-FD2375C3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AF33-FA48-4040-B924-18E20737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C3CA-8F40-430B-8D50-F10877A8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EF3-0699-46C2-BD5A-D9FA74D9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D786-F77C-40D3-A7C4-A99ED12C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BD0D-0054-462C-8E6C-32263F22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1084-CE1D-4C3E-9B0A-2FFD5926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4378-018A-4770-B2D1-206B173C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69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0C8C-CD0A-4CF3-964D-6B5DB732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C640-D09F-437F-8C86-017AD60F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CC1F-492B-4BCB-958B-BC188628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2862-BDD2-47BE-A8EB-4FF43305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B655-4DF8-4590-B7CE-D4FB51CCE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El nuevo BMW Serie 1 Coupé. 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Puntos culminantes</a:t>
            </a:r>
            <a:r>
              <a:rPr b="0" lang="en-US" sz="4400" spc="-1" strike="noStrike">
                <a:solidFill>
                  <a:srgbClr val="000000"/>
                </a:solidFill>
                <a:latin typeface="BMWType Light"/>
              </a:rPr>
              <a:t>.</a:t>
            </a:r>
            <a:r>
              <a:rPr b="0" lang="en-US" sz="4400" spc="-1" strike="noStrike">
                <a:solidFill>
                  <a:srgbClr val="808080"/>
                </a:solidFill>
                <a:latin typeface="BMW Helvetica Light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229716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BMWTypeLight-Bold"/>
                <a:ea typeface="Times New Roman"/>
              </a:rPr>
              <a:t>BMW pura ra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2906640"/>
            <a:ext cx="79250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El nuevo BMW Serie 1 Coupé suma a la funcionalidad típica de la categoría de automóviles compactos la dinámica y la forma de un auténtico cupé deportiv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BMW 135i Coupé dispone de una motorización extraordinaria con High Precision Injection y Twin Turb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BMW 123d Coupé – el primer diesel de cuatro cilindros del mundo con Variable Twin Turbo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Paquete BMW EfficientDynamics: con Brake Energy Regeneration, función de autoarranque y demás medidas para una mayor dinámica y un menor consu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4:19:52Z</dcterms:created>
  <dc:creator>Christoph Schmitz</dc:creator>
  <dc:description/>
  <dc:language>en-US</dc:language>
  <cp:lastModifiedBy>Christiane</cp:lastModifiedBy>
  <dcterms:modified xsi:type="dcterms:W3CDTF">2007-07-25T17:53:37Z</dcterms:modified>
  <cp:revision>31</cp:revision>
  <dc:subject/>
  <dc:title>Die neue BMW 5er Reihe Konsequenzen für eine erfolgreiche 5er Verkaufsarbeit</dc:title>
</cp:coreProperties>
</file>